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8F7-55BE-449B-893B-47655CDD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8B9-A02C-4156-B73E-9414D80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FDA-ECC3-4547-BD6E-C2CE40A0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322-3CF9-428C-BEF2-271B1DFD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BA3-A014-4529-B41F-C830F826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21F-DE36-4AB8-B830-587590E1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F8F-903B-4CCB-BED3-31427DEE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8F6-FFCE-40F7-AE39-E3FF3458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CCC-9D46-4727-B515-DD439C3F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9A5-0189-4FDC-BCAF-F4168B0A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9D4-C472-45B4-926A-5B5F6EC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EA8-0620-4128-9A17-6798767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CC01-3A76-49A7-97DB-9C77693F6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20.xml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6.xml"/><Relationship Id="rId17" Type="http://schemas.openxmlformats.org/officeDocument/2006/relationships/slide" Target=""/><Relationship Id="rId18" Type="http://schemas.openxmlformats.org/officeDocument/2006/relationships/slide" Target="slide28.xml"/><Relationship Id="rId19" Type="http://schemas.openxmlformats.org/officeDocument/2006/relationships/slide" Target=""/><Relationship Id="rId20" Type="http://schemas.openxmlformats.org/officeDocument/2006/relationships/slide" Target="slide30.xml"/><Relationship Id="rId21" Type="http://schemas.openxmlformats.org/officeDocument/2006/relationships/slide" Target=""/><Relationship Id="rId22" Type="http://schemas.openxmlformats.org/officeDocument/2006/relationships/slide" Target="slide32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slide2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3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9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7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8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9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that flows from the sun through organis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 pyram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gets less than 25 centimeters of rain or snow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greens are mainly in this forest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ig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is near the equator and is very w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opical Rainfor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ly small plants can grow during a very short warm season in this very cold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undr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of same species in same area,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forests lose their leaves in the f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ciduous Forest Bi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ce where a species liv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bit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le an organism ha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e population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mm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0-11-03T19:47:39Z</dcterms:modified>
  <cp:revision>54</cp:revision>
  <dc:subject/>
  <dc:title>No Slide Title</dc:title>
</cp:coreProperties>
</file>